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01D-E97C-4FF7-9779-C8B0CB75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BEB4-82F9-4171-8C31-BB0730EB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35D-D81B-4831-9B10-C09CB264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FD3-C0B2-4E74-A5DE-E0210201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238F-18D5-48FC-A3A3-0A76E631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0614-240E-4AA9-8D93-4199D2D0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FB4E-E8A9-4462-AA20-E05144ED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39AA-AF57-4B50-9903-B56D6366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3DB9-5AA1-4B75-A374-8F437389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4895-67BF-4CE3-B7F2-8A1DE636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C24E-2282-46CE-9A45-DE8462C4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003-A35E-42C4-80F0-14E34EE6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CC85-74BA-4E71-A2BD-82297EFB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42D8-DE37-424E-8DC1-8C407F69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4B2E-1FE2-42DD-BD69-4FEB5B03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CED8-7F39-4015-8CA6-32A3E0FA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9D6B-C5C8-4EFA-811C-0AF7D439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3F952-6E54-4D69-9E57-42FE9DE1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4DAC1-C748-4FB4-AF53-8A10A127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94437-C2F5-4C7E-B88C-FB0D9310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FC80C-DDB1-4D63-A73B-21FCD422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84E82-ABAA-468B-951F-CBBB41F2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997-5B06-4D27-9B87-ED9173ED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9F81C-65A3-4BAB-8B0D-6BB04D39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58560-E758-4181-836B-7D0CD047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188CA-239F-4F6A-B8C2-1B8C3000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D6946-ACA8-4CFD-B0F3-1436F3EF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735A4-653A-4D8F-B052-FEEF9C2D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84462-BCBC-4C6C-B029-A9B35280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BA5CD-047F-4A5B-9236-74A4E583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44478-4A18-4C12-852D-D683514E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E8E30-64B5-4F3C-9683-8BB03346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DBF00-45FE-4F62-AED6-D9849D41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718-F751-4C3E-A4F6-581C10B2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C7540-9E66-4559-9CAA-2D27353F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DA9E9-1C85-46B8-9007-90633D33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1DAA8-7711-4016-81E3-33B19FB2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9184E-4B19-4B79-925C-8DA38CA3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14446-4EFF-4EBF-BCAA-7580E98B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27CF0-7DF5-4AED-BAAC-1C64745B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6E4A4-D049-456D-A1D1-752F3E55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CB236-3D07-4427-82FB-7ED1DC15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B4B37-94A5-402C-8A28-70280E10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277EC-FECB-46C7-829F-CBAE0292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CA0-3AD3-4197-947B-06FE9A8C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FE82A-BC10-493A-8E36-AB9365B4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E07C0-CA59-4809-A43A-397CC141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D65D4-9AC9-47B1-9937-7C8BB215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C3132-ABC3-4D6A-A05F-447B1D04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EDAC5-FD67-4D10-9C8F-F4BE255F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05818-2D56-48DF-853D-A0E1FA1E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1BB21-F9E9-426A-9785-27DD3A36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1F706-C1AA-4D6B-AF0A-9C56FF56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E8925-B741-49BA-B30E-3FF0E4DD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14185-AADB-42FC-AF2E-8430BD8E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7FA8-78A6-4401-AB25-DFB742C1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E356A-628A-4019-AEA1-D731110B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CF841-3892-4D07-81F9-EC5A4B69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853CC-146E-48F0-A359-CC81B1AE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EE001-A32E-493D-9E3C-EA47DFA6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0C1F8-AE80-4891-8E75-A54DF7D8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AC5C6-F838-494E-9110-C1802B22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A1133-8FF7-457A-9223-DFB1AC92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84E90-F3EF-48C8-9CCA-9826AC4E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8C663-107A-431F-B098-DC26DE2E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E7AF9-FC64-4DBB-84B5-21BC4BE1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17A-0868-478C-A365-51CCBCE5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2ABAE-E740-4128-886F-9E5F4445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9F19F-17C8-414B-89EE-A43BCE43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7DF23-81CE-4AFF-99E7-51E31387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0B14C-88D1-42B0-9D0B-EB5FC0C2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31874-C076-4545-BEC1-485EB39B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2B2C2-9848-453F-B8D9-11E51383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9AA05-0E85-4418-80E7-01327467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0EACD-3012-42FC-A995-C9C8EFDC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83B20-F9CF-417D-B5C8-84388B5F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C051D-CC31-4825-A525-6DF5793C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DA5B-2479-4802-AFB7-0AFF28D0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5047F-348C-4D29-A5AE-17939268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01560-48D2-4FDC-951B-E2C0136C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E8529-25A9-4096-9892-548E1A28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4995E-3640-461B-AEE7-6584AEE0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6C6D9-F7C7-49C8-9E4C-9916E785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3D0-73E1-4874-968F-7D17BB05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E9A0-E055-468E-A951-4689F868EB9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F673-BE60-4ECF-8B4D-1932D61FA45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42C6-61F7-41DD-AA88-5752905909F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5ABC-7AB8-48A1-A577-2852B1654AC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EFEA-76F6-42B9-84B4-85692BF6FF5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C7D5-15C1-44B2-B481-89E56F236E7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9827-998E-4249-8CCD-B7BA44A651F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Existentialism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Ilissa Pizarro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Stephanie Laureano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968400" y="2057400"/>
            <a:ext cx="7407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 philosophy that emphasizes the uniqueness and isolation of the individual experience in a hostile or indifferent world, regards human existence as unexplainable, stresses freedom of choice and responsibility for the consequences of one's act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2" descr="http://www.himalayanacademy.com/resources/books/dws/images/dws-t-is-one-Existentialism.jpg"/>
          <p:cNvPicPr/>
          <p:nvPr/>
        </p:nvPicPr>
        <p:blipFill>
          <a:blip r:embed="rId1"/>
          <a:stretch/>
        </p:blipFill>
        <p:spPr>
          <a:xfrm>
            <a:off x="3352680" y="4216320"/>
            <a:ext cx="26384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1904760"/>
            <a:ext cx="740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Importance of the individua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"What does it mean to be existing as a human being?“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Importance of choic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We are constituted by our decision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Anxiety regarding life, death, contingencies, and extreme situation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eing human is finding oneself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aning and absurdit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We question about our lives in search of our purpose in lif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oncepts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71560" y="2057400"/>
            <a:ext cx="7408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Authenticit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e need to be honest with ourselves and each othe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Social criticis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rms of hiding expressions of fear and ignoranc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Importance of personal relation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reating meaning, actually means creating and discovering relations between peopl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Atheism and Relig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Human beings must make decisions that create meaning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685800" y="2057040"/>
            <a:ext cx="740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"Sky is not a limit for me; because I have no limit for myself in life. Because life is a world full of risk taking and possibilities. No matter how hard or easy life is; I will always find a way to enjoy myself; even in the mist of circumstances; because problems is a sense of adventure in sheep's clothing."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—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emitope Owosela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Quo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609120" y="2438280"/>
            <a:ext cx="80010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http://www.thefreedictionary.com/existentialis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b87d6"/>
                </a:solidFill>
                <a:uFillTx/>
                <a:latin typeface="Candara"/>
              </a:rPr>
              <a:t>http://www.allaboutphilosophy.org/existentialism.ht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b87d6"/>
                </a:solidFill>
                <a:uFillTx/>
                <a:latin typeface="Candara"/>
              </a:rPr>
              <a:t>http://people.bu.edu/wwildman/WeirdWildWeb/courses/wphil/lectures/wphil_theme20.ht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5:14:26Z</dcterms:created>
  <dc:creator>Estephani</dc:creator>
  <dc:description/>
  <dc:language>en-US</dc:language>
  <cp:lastModifiedBy>Estephani</cp:lastModifiedBy>
  <dcterms:modified xsi:type="dcterms:W3CDTF">2011-02-16T03:22:33Z</dcterms:modified>
  <cp:revision>9</cp:revision>
  <dc:subject/>
  <dc:title>Existentialism</dc:title>
</cp:coreProperties>
</file>